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50BE-9ED7-4BE7-B8CE-5D089A031D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E468-DD17-42FC-ABBB-32625D2CA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108-6505-400A-A572-CD56409D15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F216-88A7-469B-A5E6-7084D1DA54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4A2-A684-4F9F-A5B2-AFB3A55AD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9D82-D0BF-4A1E-99E7-E033CD0E1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697-E697-4112-B895-DBD9D0D3D5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D365-7DFF-46BA-8A66-CCD27F600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5F75-BE90-40F2-8C98-4E586CFD9B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38E-D667-4AFD-8F93-7BA5C485A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1C9-77A0-43EC-BE2F-9D5F8A9D4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869-8EDE-460E-A28A-2DD8E82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853-87DC-4D36-A2C3-731B077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657-1E79-45D6-83BF-ADE8BA61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F6E-661C-4A56-B622-FA98841E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F3E-B1D3-4742-98CE-D15385F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8BD-A556-4FA0-B84B-C7FCAB4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A10-88C0-4D58-8C82-A3842B8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13F-B103-4C51-8077-07FBB399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9B0-7EB9-4EA4-9B89-839771D3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752-3302-43CA-BED9-6E9E883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99D-C64E-4013-98D3-DB0F960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41D-475F-4A1E-9C21-46A1A61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F65-E426-47A0-809A-182C1BE956C7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9F0-8141-45E4-96AE-393611D4E1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376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Суворовский район (млн. руб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FC6-6195-46DF-8268-8D286AB42F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Диаграмма 4"/>
          <p:cNvGraphicFramePr/>
          <p:nvPr/>
        </p:nvGraphicFramePr>
        <p:xfrm>
          <a:off x="417600" y="1074600"/>
          <a:ext cx="8515440" cy="542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074600"/>
                    <a:ext cx="8515440" cy="54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Дефицит бюджета муниципального образования Суворовский район 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Объект 4"/>
          <p:cNvGraphicFramePr/>
          <p:nvPr/>
        </p:nvGraphicFramePr>
        <p:xfrm>
          <a:off x="428760" y="1020600"/>
          <a:ext cx="8286480" cy="571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020600"/>
                    <a:ext cx="82864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D26-D05D-45F5-9EDF-ED0BE05E59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3760" y="20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Безвозмездные поступления (млн. рубл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104F-9794-4B34-A6FD-2F5974A4F3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Диаграмма 4"/>
          <p:cNvGraphicFramePr/>
          <p:nvPr/>
        </p:nvGraphicFramePr>
        <p:xfrm>
          <a:off x="560520" y="930240"/>
          <a:ext cx="8177040" cy="578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930240"/>
                    <a:ext cx="817704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Расходы бюджета муниципального образования Суворовский район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Объект 4"/>
          <p:cNvGraphicFramePr/>
          <p:nvPr/>
        </p:nvGraphicFramePr>
        <p:xfrm>
          <a:off x="428760" y="963720"/>
          <a:ext cx="8286480" cy="58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63720"/>
                    <a:ext cx="828648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F9B9-2A27-4D9B-99BD-8B41DFF17F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80" y="260280"/>
            <a:ext cx="417816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Управление муниципальными финансами Суворовского района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Содержимое 4"/>
          <p:cNvGraphicFramePr/>
          <p:nvPr/>
        </p:nvGraphicFramePr>
        <p:xfrm>
          <a:off x="128520" y="1290600"/>
          <a:ext cx="4567320" cy="55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290600"/>
                    <a:ext cx="456732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E00-7A73-42A6-97F2-4B3D191971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4772160" y="1362240"/>
          <a:ext cx="4422600" cy="54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1362240"/>
                    <a:ext cx="4422600" cy="54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Заголовок 1"/>
          <p:cNvSpPr/>
          <p:nvPr/>
        </p:nvSpPr>
        <p:spPr>
          <a:xfrm>
            <a:off x="4449600" y="166680"/>
            <a:ext cx="4680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Защита населения и территорий Суворовского района от ЧС, обеспечение пожарной безопасности людей на водных объектах»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150840"/>
            <a:ext cx="440532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образования Суворовского района» </a:t>
            </a:r>
            <a:br>
              <a:rPr sz="1900"/>
            </a:b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Содержимое 4"/>
          <p:cNvGraphicFramePr/>
          <p:nvPr/>
        </p:nvGraphicFramePr>
        <p:xfrm>
          <a:off x="-54000" y="1108080"/>
          <a:ext cx="456732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1108080"/>
                    <a:ext cx="45673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D6C-4E0F-46FF-AB01-5E137C30A5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4610160" y="992160"/>
          <a:ext cx="4422600" cy="587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0160" y="992160"/>
                    <a:ext cx="442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Заголовок 1"/>
          <p:cNvSpPr/>
          <p:nvPr/>
        </p:nvSpPr>
        <p:spPr>
          <a:xfrm>
            <a:off x="4643280" y="115920"/>
            <a:ext cx="45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Развитие культуры Суворовского района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МП «Развитие молодежной политики в Суворовском районе»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Объект 4"/>
          <p:cNvGraphicFramePr/>
          <p:nvPr/>
        </p:nvGraphicFramePr>
        <p:xfrm>
          <a:off x="272880" y="785880"/>
          <a:ext cx="8286840" cy="57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785880"/>
                    <a:ext cx="82868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90C-E34A-47DB-B738-0F768B5DA3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080" y="333360"/>
            <a:ext cx="4968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газоснабжения и водоснабжения граждан Суворовского района» (млн. рублей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Содержимое 4"/>
          <p:cNvGraphicFramePr/>
          <p:nvPr/>
        </p:nvGraphicFramePr>
        <p:xfrm>
          <a:off x="128520" y="930240"/>
          <a:ext cx="4803840" cy="58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930240"/>
                    <a:ext cx="480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A3EA-BA88-45A9-B7E5-30695A3147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4592520" y="1341360"/>
          <a:ext cx="4422960" cy="537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341360"/>
                    <a:ext cx="44229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Заголовок 1"/>
          <p:cNvSpPr/>
          <p:nvPr/>
        </p:nvSpPr>
        <p:spPr>
          <a:xfrm>
            <a:off x="4643280" y="115920"/>
            <a:ext cx="450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МП «Создание условий для обеспечения качественными услугами теплоснабжения и водоотведения граждан Суворовского района» (млн.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27FA-4CD5-4EF8-BC16-83D915DEBE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340000" y="1341360"/>
          <a:ext cx="4608360" cy="55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60836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Заголовок 1"/>
          <p:cNvSpPr/>
          <p:nvPr/>
        </p:nvSpPr>
        <p:spPr>
          <a:xfrm>
            <a:off x="395280" y="150840"/>
            <a:ext cx="7921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Palatino Linotype"/>
                <a:ea typeface="Times New Roman"/>
              </a:rPr>
              <a:t>Непрограммные расходы муниципального образования Суворовский район (млн. рублей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Palatino Linotype"/>
              </a:rPr>
              <a:t>Муниципальный долг (млн. рубле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Объект 4"/>
          <p:cNvGraphicFramePr/>
          <p:nvPr/>
        </p:nvGraphicFramePr>
        <p:xfrm>
          <a:off x="272880" y="785880"/>
          <a:ext cx="8286840" cy="57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785880"/>
                    <a:ext cx="82868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EA5-728B-4C81-8D6E-8D56B2B717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6:01:21Z</dcterms:created>
  <dc:creator>Admin</dc:creator>
  <dc:description/>
  <dc:language>en-US</dc:language>
  <cp:lastModifiedBy>Пользователь</cp:lastModifiedBy>
  <cp:lastPrinted>2023-12-26T07:13:02Z</cp:lastPrinted>
  <dcterms:modified xsi:type="dcterms:W3CDTF">2024-12-26T09:05:09Z</dcterms:modified>
  <cp:revision>999</cp:revision>
  <dc:subject/>
  <dc:title>Доходы бюджета муниципального образования Суворовский район (тыс. рублей)</dc:title>
</cp:coreProperties>
</file>