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FFE4-3CC2-44C2-8333-A6220BA3D6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22C0-358F-4583-9682-9BC1787721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5271-062A-4BFA-AD47-ABFA5D3835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849E-56DA-4DBE-9349-F87A518253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A354-22B5-4EC9-B9FB-8E466BA66A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5307-6D02-47A7-B713-8A2E8F5139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F66A-F498-4D66-ADC7-5018C2973D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56F4-FD42-4114-9028-167CDCE9B9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24D9-C40B-40AC-9AF0-2FBC5A09FF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BEE9-1DBD-44F1-B4F2-D617B7716E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C1B5-9763-4182-BD49-7E41E0D301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44C1-7EC5-47B8-94A9-95FD23A38C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4BCA-384D-4660-AD26-AAD663C20B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8156-BAF4-4BFF-83F8-C64A6136F1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FAF9-92B0-4941-8CAD-58F4AEFE4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B263-A065-4A43-803E-F938142A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70BE-49A1-48D7-9B72-2D6F6D12A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AF27-5861-4DA5-AEA4-EFB8218EB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5ADA-34D8-47A0-97C2-8BFFD7B1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D513-40C0-4F6D-A417-6FD8CA0E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02E2-14E8-4C1D-ACB7-F2626905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9613-B6F1-4EDA-8421-209A5FA2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B561-0C34-4D2E-91A9-8E8756DB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B54F-B0BB-4A36-8FCF-99046372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A666-D817-4EE0-81DF-3F7A0E8B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4D57-5C45-440E-8C7A-FD5A6693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17FA-ACEC-444D-8860-2EF934F27AE6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7AFD-F6A9-4F2B-8DD7-9D5FBC158E5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23760" y="20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Palatino Linotype"/>
                <a:ea typeface="Times New Roman"/>
              </a:rPr>
              <a:t>Доходы бюджета муниципального образования </a:t>
            </a:r>
            <a:br>
              <a:rPr sz="2400"/>
            </a:br>
            <a:r>
              <a:rPr b="1" lang="ru-RU" sz="2400" spc="-1" strike="noStrike">
                <a:solidFill>
                  <a:srgbClr val="17375e"/>
                </a:solidFill>
                <a:latin typeface="Palatino Linotype"/>
                <a:ea typeface="Times New Roman"/>
              </a:rPr>
              <a:t>Суворовский район (млн. рубле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2810-D490-44EF-98EC-7FC9BE23B6A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Диаграмма 4"/>
          <p:cNvGraphicFramePr/>
          <p:nvPr/>
        </p:nvGraphicFramePr>
        <p:xfrm>
          <a:off x="417600" y="1074600"/>
          <a:ext cx="8515440" cy="542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Диаграмма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1074600"/>
                    <a:ext cx="8515440" cy="542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Palatino Linotype"/>
              </a:rPr>
              <a:t>МП «Реализация проекта «Народный бюджет» в Суворовском районе (млн. рублей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3" name="Объект 4"/>
          <p:cNvGraphicFramePr/>
          <p:nvPr/>
        </p:nvGraphicFramePr>
        <p:xfrm>
          <a:off x="272880" y="785880"/>
          <a:ext cx="8286840" cy="571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2880" y="785880"/>
                    <a:ext cx="8286840" cy="57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2FC8-7D2E-49F3-9A97-779D97A9324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0269-6048-4C50-993B-7B9A618F5B2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3"/>
          <p:cNvGraphicFramePr/>
          <p:nvPr/>
        </p:nvGraphicFramePr>
        <p:xfrm>
          <a:off x="2340000" y="1341360"/>
          <a:ext cx="4608360" cy="552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341360"/>
                    <a:ext cx="4608360" cy="55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Заголовок 1"/>
          <p:cNvSpPr/>
          <p:nvPr/>
        </p:nvSpPr>
        <p:spPr>
          <a:xfrm>
            <a:off x="395280" y="150840"/>
            <a:ext cx="79218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7375e"/>
                </a:solidFill>
                <a:latin typeface="Palatino Linotype"/>
                <a:ea typeface="Times New Roman"/>
              </a:rPr>
              <a:t>Непрограммные расходы муниципального образования Суворовский район (млн. рублей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Palatino Linotype"/>
              </a:rPr>
              <a:t>Муниципальный долг (млн. рублей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Объект 4"/>
          <p:cNvGraphicFramePr/>
          <p:nvPr/>
        </p:nvGraphicFramePr>
        <p:xfrm>
          <a:off x="272880" y="785880"/>
          <a:ext cx="8286840" cy="571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2880" y="785880"/>
                    <a:ext cx="8286840" cy="57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537A-486F-42AD-B4B5-CCE1897E612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Palatino Linotype"/>
              </a:rPr>
              <a:t>Дефицит бюджета муниципального образования Суворовский район  (млн. рублей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5" name="Объект 4"/>
          <p:cNvGraphicFramePr/>
          <p:nvPr/>
        </p:nvGraphicFramePr>
        <p:xfrm>
          <a:off x="428760" y="1020600"/>
          <a:ext cx="8286480" cy="571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020600"/>
                    <a:ext cx="8286480" cy="571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9A2A-344C-46F0-A440-A4954517150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23760" y="20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Palatino Linotype"/>
                <a:ea typeface="Times New Roman"/>
              </a:rPr>
              <a:t>Безвозмездные поступления (млн. рубле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DB05-5BC4-4B5E-B114-84E909CD418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Диаграмма 4"/>
          <p:cNvGraphicFramePr/>
          <p:nvPr/>
        </p:nvGraphicFramePr>
        <p:xfrm>
          <a:off x="560520" y="930240"/>
          <a:ext cx="8177040" cy="578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Диаграмма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0520" y="930240"/>
                    <a:ext cx="817704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Palatino Linotype"/>
              </a:rPr>
              <a:t>Расходы бюджета муниципального образования Суворовский район (млн. рублей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Объект 4"/>
          <p:cNvGraphicFramePr/>
          <p:nvPr/>
        </p:nvGraphicFramePr>
        <p:xfrm>
          <a:off x="428760" y="963720"/>
          <a:ext cx="8286480" cy="589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963720"/>
                    <a:ext cx="8286480" cy="58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09A5-DC18-45CC-9120-3CE173492E5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7640" y="150840"/>
            <a:ext cx="440532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7375e"/>
                </a:solidFill>
                <a:latin typeface="Palatino Linotype"/>
                <a:ea typeface="Times New Roman"/>
              </a:rPr>
              <a:t>МП «Развитие образования Суворовского района» </a:t>
            </a:r>
            <a:br>
              <a:rPr sz="1900"/>
            </a:br>
            <a:r>
              <a:rPr b="1" lang="ru-RU" sz="1900" spc="-1" strike="noStrike">
                <a:solidFill>
                  <a:srgbClr val="17375e"/>
                </a:solidFill>
                <a:latin typeface="Palatino Linotype"/>
                <a:ea typeface="Times New Roman"/>
              </a:rPr>
              <a:t>(млн. рублей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Содержимое 4"/>
          <p:cNvGraphicFramePr/>
          <p:nvPr/>
        </p:nvGraphicFramePr>
        <p:xfrm>
          <a:off x="-54000" y="1108080"/>
          <a:ext cx="4567320" cy="576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Содержимое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4000" y="1108080"/>
                    <a:ext cx="456732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5386-D4CF-4DB4-AF73-9854DFFB45F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3"/>
          <p:cNvGraphicFramePr/>
          <p:nvPr/>
        </p:nvGraphicFramePr>
        <p:xfrm>
          <a:off x="4610160" y="992160"/>
          <a:ext cx="4422600" cy="5877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10160" y="992160"/>
                    <a:ext cx="442260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Заголовок 1"/>
          <p:cNvSpPr/>
          <p:nvPr/>
        </p:nvSpPr>
        <p:spPr>
          <a:xfrm>
            <a:off x="4643280" y="115920"/>
            <a:ext cx="4500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7375e"/>
                </a:solidFill>
                <a:latin typeface="Palatino Linotype"/>
                <a:ea typeface="Times New Roman"/>
              </a:rPr>
              <a:t>МП «Развитие культуры Суворовского района»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7375e"/>
                </a:solidFill>
                <a:latin typeface="Palatino Linotype"/>
                <a:ea typeface="Times New Roman"/>
              </a:rPr>
              <a:t>(млн. рублей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080" y="259920"/>
            <a:ext cx="4178160" cy="11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7375e"/>
                </a:solidFill>
                <a:latin typeface="Palatino Linotype"/>
                <a:ea typeface="Times New Roman"/>
              </a:rPr>
              <a:t>МП «Обеспечение доступным и комфортным жильем граждан  Суворовского района» </a:t>
            </a:r>
            <a:br>
              <a:rPr sz="1900"/>
            </a:br>
            <a:r>
              <a:rPr b="1" lang="ru-RU" sz="1900" spc="-1" strike="noStrike">
                <a:solidFill>
                  <a:srgbClr val="17375e"/>
                </a:solidFill>
                <a:latin typeface="Palatino Linotype"/>
                <a:ea typeface="Times New Roman"/>
              </a:rPr>
              <a:t>(млн. рублей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Содержимое 4"/>
          <p:cNvGraphicFramePr/>
          <p:nvPr/>
        </p:nvGraphicFramePr>
        <p:xfrm>
          <a:off x="128520" y="1290600"/>
          <a:ext cx="4567320" cy="551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Содержимое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290600"/>
                    <a:ext cx="4567320" cy="55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AAF7-C2BB-4628-B8D0-6C7715CEAEC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3"/>
          <p:cNvGraphicFramePr/>
          <p:nvPr/>
        </p:nvGraphicFramePr>
        <p:xfrm>
          <a:off x="4772160" y="1362240"/>
          <a:ext cx="4422600" cy="5443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72160" y="1362240"/>
                    <a:ext cx="4422600" cy="54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Заголовок 1"/>
          <p:cNvSpPr/>
          <p:nvPr/>
        </p:nvSpPr>
        <p:spPr>
          <a:xfrm>
            <a:off x="4449600" y="166680"/>
            <a:ext cx="468000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7375e"/>
                </a:solidFill>
                <a:latin typeface="Palatino Linotype"/>
                <a:ea typeface="Times New Roman"/>
              </a:rPr>
              <a:t>МП «Социальная поддержка населения Суворовского района» (млн. рублей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080" y="475920"/>
            <a:ext cx="4968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7375e"/>
                </a:solidFill>
                <a:latin typeface="Palatino Linotype"/>
                <a:ea typeface="Times New Roman"/>
              </a:rPr>
              <a:t>МП «Создание условий для обеспечения качественными услугами газоснабжения и водоснабжения граждан Суворовского района» (млн. рублей)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Содержимое 4"/>
          <p:cNvGraphicFramePr/>
          <p:nvPr/>
        </p:nvGraphicFramePr>
        <p:xfrm>
          <a:off x="128520" y="930240"/>
          <a:ext cx="4803840" cy="586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Содержимое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930240"/>
                    <a:ext cx="480384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A5CD-869B-4067-A05F-6008C1CC330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3"/>
          <p:cNvGraphicFramePr/>
          <p:nvPr/>
        </p:nvGraphicFramePr>
        <p:xfrm>
          <a:off x="4572000" y="1343160"/>
          <a:ext cx="4422600" cy="5378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343160"/>
                    <a:ext cx="442260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Заголовок 1"/>
          <p:cNvSpPr/>
          <p:nvPr/>
        </p:nvSpPr>
        <p:spPr>
          <a:xfrm>
            <a:off x="4643280" y="0"/>
            <a:ext cx="450072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7375e"/>
                </a:solidFill>
                <a:latin typeface="Palatino Linotype"/>
                <a:ea typeface="Times New Roman"/>
              </a:rPr>
              <a:t>МП «Создание условий для обеспечения качественными услугами теплоснабжения и водоотведения граждан Суворовского района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7375e"/>
                </a:solidFill>
                <a:latin typeface="Palatino Linotype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17375e"/>
                </a:solidFill>
                <a:latin typeface="Palatino Linotype"/>
                <a:ea typeface="Times New Roman"/>
              </a:rPr>
              <a:t>(млн. рублей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080" y="259920"/>
            <a:ext cx="4178160" cy="11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7375e"/>
                </a:solidFill>
                <a:latin typeface="Palatino Linotype"/>
                <a:ea typeface="Times New Roman"/>
              </a:rPr>
              <a:t>МП «Улучшение демографической ситуации и поддержка семей, воспитывающих детей, </a:t>
            </a:r>
            <a:br>
              <a:rPr sz="1900"/>
            </a:br>
            <a:r>
              <a:rPr b="1" lang="ru-RU" sz="1900" spc="-1" strike="noStrike">
                <a:solidFill>
                  <a:srgbClr val="17375e"/>
                </a:solidFill>
                <a:latin typeface="Palatino Linotype"/>
                <a:ea typeface="Times New Roman"/>
              </a:rPr>
              <a:t>в Суворовском районе» </a:t>
            </a:r>
            <a:br>
              <a:rPr sz="1900"/>
            </a:br>
            <a:r>
              <a:rPr b="1" lang="ru-RU" sz="1900" spc="-1" strike="noStrike">
                <a:solidFill>
                  <a:srgbClr val="17375e"/>
                </a:solidFill>
                <a:latin typeface="Palatino Linotype"/>
                <a:ea typeface="Times New Roman"/>
              </a:rPr>
              <a:t>(млн. рублей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" name="Содержимое 4"/>
          <p:cNvGraphicFramePr/>
          <p:nvPr/>
        </p:nvGraphicFramePr>
        <p:xfrm>
          <a:off x="128520" y="1290600"/>
          <a:ext cx="4567320" cy="551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Содержимое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290600"/>
                    <a:ext cx="4567320" cy="55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371D-1A59-44FD-9425-E40CB6A27C3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3"/>
          <p:cNvGraphicFramePr/>
          <p:nvPr/>
        </p:nvGraphicFramePr>
        <p:xfrm>
          <a:off x="4772160" y="1362240"/>
          <a:ext cx="4422600" cy="5443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72160" y="1362240"/>
                    <a:ext cx="4422600" cy="54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Заголовок 1"/>
          <p:cNvSpPr/>
          <p:nvPr/>
        </p:nvSpPr>
        <p:spPr>
          <a:xfrm>
            <a:off x="4449600" y="166680"/>
            <a:ext cx="468000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7375e"/>
                </a:solidFill>
                <a:latin typeface="Palatino Linotype"/>
                <a:ea typeface="Times New Roman"/>
              </a:rPr>
              <a:t>МП «Модернизация и развитие автомобильных дорог общего пользования в Суворовском районе» (млн. рублей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080" y="475920"/>
            <a:ext cx="4968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7375e"/>
                </a:solidFill>
                <a:latin typeface="Palatino Linotype"/>
                <a:ea typeface="Times New Roman"/>
              </a:rPr>
              <a:t>МП «Управление муниципальным имуществом и земельными ресурсами Суворовского района» (млн. рублей)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Содержимое 4"/>
          <p:cNvGraphicFramePr/>
          <p:nvPr/>
        </p:nvGraphicFramePr>
        <p:xfrm>
          <a:off x="128520" y="930240"/>
          <a:ext cx="4803840" cy="586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Содержимое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930240"/>
                    <a:ext cx="480384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119E-0235-4D55-A754-BEFC0FF2CC1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3"/>
          <p:cNvGraphicFramePr/>
          <p:nvPr/>
        </p:nvGraphicFramePr>
        <p:xfrm>
          <a:off x="4572000" y="1343160"/>
          <a:ext cx="4422600" cy="5378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343160"/>
                    <a:ext cx="442260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Заголовок 1"/>
          <p:cNvSpPr/>
          <p:nvPr/>
        </p:nvSpPr>
        <p:spPr>
          <a:xfrm>
            <a:off x="4643280" y="0"/>
            <a:ext cx="450072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7375e"/>
                </a:solidFill>
                <a:latin typeface="Palatino Linotype"/>
                <a:ea typeface="Times New Roman"/>
              </a:rPr>
              <a:t>МП «Развитие физической культуры, спорта на территории муниципального образования Суворовского района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7375e"/>
                </a:solidFill>
                <a:latin typeface="Palatino Linotype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17375e"/>
                </a:solidFill>
                <a:latin typeface="Palatino Linotype"/>
                <a:ea typeface="Times New Roman"/>
              </a:rPr>
              <a:t>(млн. рублей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080" y="259920"/>
            <a:ext cx="4178160" cy="11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7375e"/>
                </a:solidFill>
                <a:latin typeface="Palatino Linotype"/>
                <a:ea typeface="Times New Roman"/>
              </a:rPr>
              <a:t>МП «Формирование современной городской среды в  муниципальном образовании Суворовский район» </a:t>
            </a:r>
            <a:br>
              <a:rPr sz="1900"/>
            </a:br>
            <a:r>
              <a:rPr b="1" lang="ru-RU" sz="1900" spc="-1" strike="noStrike">
                <a:solidFill>
                  <a:srgbClr val="17375e"/>
                </a:solidFill>
                <a:latin typeface="Palatino Linotype"/>
                <a:ea typeface="Times New Roman"/>
              </a:rPr>
              <a:t>(млн. рублей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Содержимое 4"/>
          <p:cNvGraphicFramePr/>
          <p:nvPr/>
        </p:nvGraphicFramePr>
        <p:xfrm>
          <a:off x="128520" y="1290600"/>
          <a:ext cx="4567320" cy="551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Содержимое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290600"/>
                    <a:ext cx="4567320" cy="55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B8A2-7B22-422B-9509-3D17B5C5CD9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3"/>
          <p:cNvGraphicFramePr/>
          <p:nvPr/>
        </p:nvGraphicFramePr>
        <p:xfrm>
          <a:off x="4772160" y="1362240"/>
          <a:ext cx="4422600" cy="5443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72160" y="1362240"/>
                    <a:ext cx="4422600" cy="54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Заголовок 1"/>
          <p:cNvSpPr/>
          <p:nvPr/>
        </p:nvSpPr>
        <p:spPr>
          <a:xfrm>
            <a:off x="4449600" y="166680"/>
            <a:ext cx="468000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7375e"/>
                </a:solidFill>
                <a:latin typeface="Palatino Linotype"/>
                <a:ea typeface="Times New Roman"/>
              </a:rPr>
              <a:t>МП «Развитие молодежной политики в Суворовском районе» (млн. рублей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6T06:01:21Z</dcterms:created>
  <dc:creator>Admin</dc:creator>
  <dc:description/>
  <dc:language>en-US</dc:language>
  <cp:lastModifiedBy>Пользователь</cp:lastModifiedBy>
  <cp:lastPrinted>2023-12-26T07:13:02Z</cp:lastPrinted>
  <dcterms:modified xsi:type="dcterms:W3CDTF">2025-03-25T06:18:38Z</dcterms:modified>
  <cp:revision>1025</cp:revision>
  <dc:subject/>
  <dc:title>Доходы бюджета муниципального образования Суворовский район (тыс. рублей)</dc:title>
</cp:coreProperties>
</file>