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CF87-2CC5-4CDD-87E1-9F0CF04CEC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48F6-8D0D-4DCC-89C5-7390620EE8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4163-CEEF-439F-989B-DD0CE0C369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301C-4E35-48DD-8C17-516AE12A43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F9B9-B532-47FF-8F23-637448EFB5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DB21-C46F-43EA-BAFB-44D554E68F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D0A6-4348-47B9-821F-B3EDC790B6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FCF2-558B-474A-ABCF-1285F05280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22F-297B-47E4-88C6-D8023D6C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D56-6B44-4AC6-A556-5A3FFAF4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132-FC26-4E1D-8C4E-66D91D06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616-B38F-4B48-ABEF-227B35C2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2DA-3D36-4AF9-92B1-AC08D725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7D7-5B9F-46CB-B69E-44FC5F15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D6E-6E8C-40FF-ADF1-1A584F82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E00-6EAA-48B7-B9C9-6699A7A8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119-81C6-4D32-857D-69D51C80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4AD-EEB0-4471-8A77-2A9121E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C81-BB6A-4CF3-B8CC-F357B008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4EA-CF4D-42A3-87A7-672D8D2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AEA-18E8-4693-968E-11ADBD53910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526A-8ACE-4F78-A03F-055C8C8B97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376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Суворовский район (млн. руб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CCD2-1EFC-48A7-8CC7-0A40DE9CE4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Диаграмма 4" descr=""/>
          <p:cNvPicPr/>
          <p:nvPr/>
        </p:nvPicPr>
        <p:blipFill>
          <a:blip r:embed="rId1"/>
          <a:stretch/>
        </p:blipFill>
        <p:spPr>
          <a:xfrm>
            <a:off x="417600" y="1074600"/>
            <a:ext cx="85154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2200" y="150840"/>
            <a:ext cx="439416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Развитие образования Суворовского района» </a:t>
            </a:r>
            <a:br>
              <a:rPr sz="1900"/>
            </a:b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"/>
          <p:cNvPicPr/>
          <p:nvPr/>
        </p:nvPicPr>
        <p:blipFill>
          <a:blip r:embed="rId1"/>
          <a:stretch/>
        </p:blipFill>
        <p:spPr>
          <a:xfrm>
            <a:off x="200160" y="1074600"/>
            <a:ext cx="4566960" cy="5500800"/>
          </a:xfrm>
          <a:prstGeom prst="rect">
            <a:avLst/>
          </a:prstGeom>
          <a:ln w="0">
            <a:noFill/>
          </a:ln>
        </p:spPr>
      </p:pic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C6ED-77EE-4926-B843-98A1B16E1D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3" descr=""/>
          <p:cNvPicPr/>
          <p:nvPr/>
        </p:nvPicPr>
        <p:blipFill>
          <a:blip r:embed="rId2"/>
          <a:stretch/>
        </p:blipFill>
        <p:spPr>
          <a:xfrm>
            <a:off x="4521240" y="1001880"/>
            <a:ext cx="4422600" cy="5717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4290840" y="115920"/>
            <a:ext cx="468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Развитие культуры Суворовского района» (млн. рубле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5219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Создание условий для обеспечения качественными услугами теплоснабжения и водоотведения граждан Суворовского района» (млн. рублей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"/>
          <p:cNvPicPr/>
          <p:nvPr/>
        </p:nvPicPr>
        <p:blipFill>
          <a:blip r:embed="rId1"/>
          <a:stretch/>
        </p:blipFill>
        <p:spPr>
          <a:xfrm>
            <a:off x="108000" y="1074600"/>
            <a:ext cx="4803840" cy="583416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8FD1-9B7C-457D-BF31-FC6738818A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ject 3" descr=""/>
          <p:cNvPicPr/>
          <p:nvPr/>
        </p:nvPicPr>
        <p:blipFill>
          <a:blip r:embed="rId2"/>
          <a:stretch/>
        </p:blipFill>
        <p:spPr>
          <a:xfrm>
            <a:off x="4637160" y="1146240"/>
            <a:ext cx="4378320" cy="557352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5076720" y="189000"/>
            <a:ext cx="4003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Модернизация и развитие автомобильных дорог общего пользования в Суворовском районе» (млн. рубле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4464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Формирование современной городской среды» 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"/>
          <p:cNvPicPr/>
          <p:nvPr/>
        </p:nvPicPr>
        <p:blipFill>
          <a:blip r:embed="rId1"/>
          <a:stretch/>
        </p:blipFill>
        <p:spPr>
          <a:xfrm>
            <a:off x="128520" y="1074600"/>
            <a:ext cx="4565880" cy="556596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A410-CF9A-4339-8579-13048CEDE6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4427640" y="18900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Переселение граждан из аварийного жилищного фонда МО Суворовский район» (млн. руб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4" descr=""/>
          <p:cNvPicPr/>
          <p:nvPr/>
        </p:nvPicPr>
        <p:blipFill>
          <a:blip r:embed="rId2"/>
          <a:stretch/>
        </p:blipFill>
        <p:spPr>
          <a:xfrm>
            <a:off x="4808520" y="1074600"/>
            <a:ext cx="420696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96480"/>
            <a:ext cx="43196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Развитие молодежной политики в Суворовском районе» (млн. рубл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28440" y="1197000"/>
            <a:ext cx="4567320" cy="523224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ABB-CC96-41C2-9049-4BB48E9EE9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2" descr=""/>
          <p:cNvPicPr/>
          <p:nvPr/>
        </p:nvPicPr>
        <p:blipFill>
          <a:blip r:embed="rId2"/>
          <a:stretch/>
        </p:blipFill>
        <p:spPr>
          <a:xfrm>
            <a:off x="4637160" y="1123920"/>
            <a:ext cx="4378320" cy="545148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4284720" y="115920"/>
            <a:ext cx="475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Создание условий для обеспечения качественными услугами газоснабжения и водоснабжения граждан Суворовского район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50480"/>
            <a:ext cx="792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Оказание поддержки граждан и их объединений, участвующих в охране общественного порядка (млн. рубле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"/>
          <p:cNvPicPr/>
          <p:nvPr/>
        </p:nvPicPr>
        <p:blipFill>
          <a:blip r:embed="rId1"/>
          <a:stretch/>
        </p:blipFill>
        <p:spPr>
          <a:xfrm>
            <a:off x="1784520" y="1146240"/>
            <a:ext cx="5574960" cy="5357880"/>
          </a:xfrm>
          <a:prstGeom prst="rect">
            <a:avLst/>
          </a:prstGeom>
          <a:ln w="0">
            <a:noFill/>
          </a:ln>
        </p:spPr>
      </p:pic>
      <p:sp>
        <p:nvSpPr>
          <p:cNvPr id="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6EA4-BF3E-4086-B70E-33593EC279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Расходы бюджета муниципального образования Суворовский район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395280" y="1108080"/>
            <a:ext cx="8286840" cy="571644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0A83-551B-4C16-951D-D2EF086FB3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Муниципальный долг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4" descr=""/>
          <p:cNvPicPr/>
          <p:nvPr/>
        </p:nvPicPr>
        <p:blipFill>
          <a:blip r:embed="rId1"/>
          <a:stretch/>
        </p:blipFill>
        <p:spPr>
          <a:xfrm>
            <a:off x="272880" y="1001880"/>
            <a:ext cx="8286840" cy="571644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167A-389E-4CD0-910D-0D4614546A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6:01:21Z</dcterms:created>
  <dc:creator>Admin</dc:creator>
  <dc:description/>
  <dc:language>en-US</dc:language>
  <cp:lastModifiedBy>Финансы</cp:lastModifiedBy>
  <cp:lastPrinted>2019-04-22T12:33:27Z</cp:lastPrinted>
  <dcterms:modified xsi:type="dcterms:W3CDTF">2023-04-03T12:12:22Z</dcterms:modified>
  <cp:revision>870</cp:revision>
  <dc:subject/>
  <dc:title>Доходы бюджета муниципального образования Суворовский район (тыс. рублей)</dc:title>
</cp:coreProperties>
</file>